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881-7C35-4E50-8D6D-D73ED0A5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807-A345-4B95-B5FB-86E00E60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DBB-A0C5-4619-A88E-84024312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D4A-B65D-4061-92A6-E1376CCF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C10-1DB3-4DEB-9811-E425968D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D2F-0CB0-4837-ABFD-331C73BF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BBA-47EC-4997-B9D0-E473AF2D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3F5-C7C1-4181-A271-8BC028D6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42D-DDC2-4385-9EB8-9E9A186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E70-3EAE-4353-8F3F-F8AAB228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3C9-BB8B-4B2A-B44F-0B15AD3E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470-2C6D-48F2-B357-D18C697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F5F0-69EA-4AC6-AA65-6E51394AB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008502FOiXzyWBRd_ph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03960" y="120600"/>
            <a:ext cx="5619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ني محجو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اخل كاس وقرب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لكن موج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وبوجد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ودك خشوع وره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عطي سعادة ل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ينقلني لدنيي تان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00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71240" y="590400"/>
            <a:ext cx="1008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ة اتمنيت اسهر عندك سهرية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أنا والليل مع نجماتو المض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ماتو نعسو وناموا- والليل اتغطى بحرامو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قيت سهرانة ع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5006587ohtFiSbExQ_ph" descr="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0"/>
            <a:ext cx="289584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ركع ساع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رق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حر جفونك             صعبة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ربي وقا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من دو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س بإيد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حمل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دنية ح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وصل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وف الآ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عيون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5:29Z</dcterms:modified>
  <cp:revision>9</cp:revision>
  <dc:subject/>
  <dc:title>PowerPoint Presentation</dc:title>
</cp:coreProperties>
</file>